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FC8-4E83-4E33-934D-64B6B31E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76520" y="438552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6E7-BB77-4C5B-91E7-76CD612B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4708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147-1061-43CF-A572-247EFDB1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9824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032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7652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9824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032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052-4C24-48F3-8C79-8E15C588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B7AA-27B9-4E05-8598-5A0C7257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081E-F589-444F-A137-C039AE7C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3F51-E3E3-4EFA-A69F-84D1CB90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7AB2-5F27-4A28-A8F5-D61B6736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10BD-3E2A-4992-89FE-1BD84955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76520" y="5331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01D-2E33-4170-BBF1-7F2724BA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74A8-DB30-4AFB-868E-38A16F6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25C-14F2-499F-8333-3AFC8D11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708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CC30-E8A4-4C8D-B1AF-ADD0D2EA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5A77-2183-467A-9F01-23253B18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520" y="438552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0278-4D92-44FE-A41A-B84EEA2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708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3492-027C-4BA8-9146-0F6AEC63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9824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0320" y="251460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52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9824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0320" y="4385520"/>
            <a:ext cx="23061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E776-9EA1-4ABA-96C4-5A62EAD3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515-BFA9-4C49-A2F8-32973DF2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66B-EBA7-4C7C-A800-A3357D93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DF3-2704-4D7B-84D5-C8C4E64D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533160"/>
            <a:ext cx="71625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4EA-6CB9-420A-B5CC-5CAA6CC9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7A1-1247-47CC-99B8-6FCC5188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47080" y="438552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264-4F30-4E26-9EC2-0DAE1BCB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7080" y="2514600"/>
            <a:ext cx="3495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520" y="4385520"/>
            <a:ext cx="71625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2D7-9405-4680-89E4-E1A806E6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9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b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b95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b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b95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b95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4280" y="6248520"/>
            <a:ext cx="1757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95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3D65-E375-43B0-B9A2-04553BD35A00}" type="datetime">
              <a:rPr b="0" lang="en-US" sz="1400" spc="-1" strike="noStrike">
                <a:solidFill>
                  <a:srgbClr val="00b957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1760" y="6248520"/>
            <a:ext cx="26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95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95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1560" y="6248520"/>
            <a:ext cx="1757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95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1505-4580-4A46-AD1D-ED23E14B952B}" type="slidenum">
              <a:rPr b="0" lang="en-US" sz="1400" spc="-1" strike="noStrike">
                <a:solidFill>
                  <a:srgbClr val="00b95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858960" y="1701720"/>
            <a:ext cx="10875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177768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9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9E70-6D78-431E-8152-37CF0F3DD7E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2B60-0701-4858-A2C4-AAB23B67B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95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95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b95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95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b95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95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b95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95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95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95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2057400"/>
            <a:ext cx="6095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n The Days of the Judges –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li and Samuel</a:t>
            </a:r>
            <a:endParaRPr b="0" lang="en-US" sz="4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92480" y="4686480"/>
            <a:ext cx="58608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957"/>
                </a:solidFill>
                <a:latin typeface="Arial"/>
              </a:rPr>
              <a:t>Quarter 3; Lesson 17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957"/>
                </a:solidFill>
                <a:latin typeface="Arial"/>
              </a:rPr>
              <a:t>1 Samuel 1-3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957"/>
                </a:solidFill>
                <a:latin typeface="Arial"/>
              </a:rPr>
              <a:t>Pages 104-109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oming soon…</a:t>
            </a: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ilistines defeats Isra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rk captured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death of Eli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ilistines have problems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1981080"/>
            <a:ext cx="70102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2840" y="5331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Eli And Samuel</a:t>
            </a: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520" y="251460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t Two Judges: Eli &amp; Samuel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ir Enemy: The Philistines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116920" y="152280"/>
            <a:ext cx="1027080" cy="1863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7080" y="38052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957"/>
                </a:solidFill>
                <a:latin typeface="Arial"/>
              </a:rPr>
              <a:t>Setting –</a:t>
            </a:r>
            <a:br>
              <a:rPr sz="4000"/>
            </a:br>
            <a:r>
              <a:rPr b="0" lang="en-US" sz="4000" spc="-1" strike="noStrike">
                <a:solidFill>
                  <a:srgbClr val="00b957"/>
                </a:solidFill>
                <a:latin typeface="Arial"/>
              </a:rPr>
              <a:t>1 Sam. 1:1-18</a:t>
            </a:r>
            <a:endParaRPr b="0" lang="en-US" sz="40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2209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-ka’nah – tribe of Levi, from Hill Country of Ephraim  v1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Wives: Hannah &amp; Pe-nin’nah  v2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eninah had children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nnah was barren</a:t>
            </a:r>
            <a:endParaRPr b="0" lang="en-US" sz="20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mily went to Shiloh yearly to worship  v3-8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nah prayed for a son and made a vow  v9-11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i, the high priest, saw her praying  v12-16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i blessed her and said God would answer her petition  v17-18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muel (“asked of God”) was born  v19-20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1828800"/>
            <a:ext cx="3276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4887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957"/>
                </a:solidFill>
                <a:latin typeface="Arial"/>
              </a:rPr>
              <a:t>Samuel Is Given To God</a:t>
            </a:r>
            <a:endParaRPr b="0" lang="en-US" sz="4400" spc="-1" strike="noStrike">
              <a:solidFill>
                <a:srgbClr val="00b957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1600" y="1676520"/>
            <a:ext cx="1069920" cy="193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4114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i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133720" y="2133360"/>
            <a:ext cx="1828800" cy="1981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4648320" cy="236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743200" y="4389480"/>
            <a:ext cx="3657600" cy="2468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33720" y="4648320"/>
            <a:ext cx="53316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amuel Is Given To God –</a:t>
            </a: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 Samuel 1:21-28; 2:1-11; 18-21; 26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uel not given until he was weaned  21-23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n, Hannah gave him to the Lord’s service  v24-28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nnah thanked God for having blessed her  v1-11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uel helped around the tabernacle  v18-19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i blessed Elkanah &amp; Hannah  v20-21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uel grew and had favor with God  v26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447920"/>
            <a:ext cx="71629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1522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The Wickedness of Eli’s Sons -</a:t>
            </a: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 Sam. 2:12-25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i was both high priest and judge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 sons, Hoph’ni &amp; Phin’e-has, were evil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12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verted the sacrificial process  v13-16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ok meat BEFORE it was cooked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tted fornication  v22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i rebuked them but they rejected his words, and he did not remove them from office  v23-25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447920"/>
            <a:ext cx="7238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A Man of God Reproves Eli –</a:t>
            </a: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 Sam. 2:27-36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ve questions to Eli: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d I choose your family in Egypt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d I choose HIM to be my priest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d I give you offerings of Israel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you “kicking” at mine offerings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you honoring your sons over me?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1447920"/>
            <a:ext cx="7238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A Man of God Reproves Eli –</a:t>
            </a: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1 Sam. 2:27-36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refore,…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 will cut off you and your house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re will not be  an old man in your house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r heart will grieve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r two sons will die the same day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 will raise me up a faithful priest”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 will build him a sure house”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 shall walk before mine anointed for ever” *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447920"/>
            <a:ext cx="7238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God Calls Samuel –</a:t>
            </a:r>
            <a:br>
              <a:rPr sz="40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1 Sam. 3:1-21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 is still a child (very young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v1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d called Samuel  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voice in the night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2-10</a:t>
            </a:r>
            <a:endParaRPr b="0" lang="en-US" sz="24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uel saw a vision  v15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Message: Punishment to Eli and his sons  v11-14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i learned his fate and accepted the Lord’s judgment as good and just  v16-18</a:t>
            </a:r>
            <a:endParaRPr b="0" lang="en-US" sz="2800" spc="-1" strike="noStrike">
              <a:solidFill>
                <a:srgbClr val="00b95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muel grew, Lord was with him, and he was established a prophet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19-2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b95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447920"/>
            <a:ext cx="73915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18:08:46Z</dcterms:created>
  <dc:creator>Terry W. Benton</dc:creator>
  <dc:description/>
  <dc:language>en-US</dc:language>
  <cp:lastModifiedBy>Frank D Vines</cp:lastModifiedBy>
  <dcterms:modified xsi:type="dcterms:W3CDTF">2005-03-06T14:28:27Z</dcterms:modified>
  <cp:revision>16</cp:revision>
  <dc:subject/>
  <dc:title>In The Days of the Judges</dc:title>
</cp:coreProperties>
</file>